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png" ContentType="image/png"/>
  <Override PartName="/ppt/media/image12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7611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68548-6D16-4301-AE7C-C90C2B181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A82EF-4009-4A39-BCA4-06F38F356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B01B4-4443-44BC-BA68-3EC6D0F8D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44668-CDB0-4649-9BAE-56E301D4E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F2DBB-015E-4EE7-BA43-9C1630A3E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10043-3665-4898-8A20-AE42E935A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0FD4F-D0DF-4289-AF26-E9023DB74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A8B5C-5889-42CD-B064-91D4AA041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13318-39D2-4CC0-900A-B56CD225A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8AE95-AFF0-488B-8E66-6B82B1303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DB99A-2A3E-4A6E-9FAB-D5CDE55A4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97142-6F7F-4DE5-A27D-AE9A61E6D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09469-09BD-4783-A4DA-E385D60EE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DD929-D7DE-475E-BA93-9EC45B4C2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5B659-8DC1-4939-89F2-20031ADFB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CE29D-281E-4442-B5D4-07D6E1EF2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E6125-FDBB-44E5-B922-B6321A398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923FF-6A6F-40AA-8371-DAF544AEB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87533-CA77-47F7-A7DB-DED3C729E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472C1-77BF-42F4-8AF9-F011515F7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93B7C-8FC6-4CE0-83C7-13F22E619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C1775-03F8-4A16-946F-32B60F809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4640F-D1D9-4BA1-8336-B549D59E5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0925C-0953-420B-AE60-967B73A0E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CA381-51AD-4C76-BF7A-52451D46B2A2}" type="slidenum">
              <a:rPr b="0" lang="ru-RU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val 6"/>
          <p:cNvSpPr/>
          <p:nvPr/>
        </p:nvSpPr>
        <p:spPr>
          <a:xfrm>
            <a:off x="449568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val 7"/>
          <p:cNvSpPr/>
          <p:nvPr/>
        </p:nvSpPr>
        <p:spPr>
          <a:xfrm>
            <a:off x="469584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val 8"/>
          <p:cNvSpPr/>
          <p:nvPr/>
        </p:nvSpPr>
        <p:spPr>
          <a:xfrm>
            <a:off x="429732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F6EBE-660A-4C44-A9BC-E494B937807A}" type="slidenum">
              <a:rPr b="0" lang="ru-RU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9280" y="3141360"/>
            <a:ext cx="8209080" cy="2663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Государственная итоговая аттестация - 2024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pic>
        <p:nvPicPr>
          <p:cNvPr id="90" name="Picture 4" descr=""/>
          <p:cNvPicPr/>
          <p:nvPr/>
        </p:nvPicPr>
        <p:blipFill>
          <a:blip r:embed="rId1"/>
          <a:stretch/>
        </p:blipFill>
        <p:spPr>
          <a:xfrm>
            <a:off x="2987640" y="250920"/>
            <a:ext cx="4680000" cy="29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867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2f5897"/>
              </a:solidFill>
              <a:latin typeface="Times New Roman"/>
              <a:ea typeface="Times New Roman"/>
            </a:endParaRPr>
          </a:p>
        </p:txBody>
      </p:sp>
      <p:pic>
        <p:nvPicPr>
          <p:cNvPr id="110" name="Picture 4" descr=""/>
          <p:cNvPicPr/>
          <p:nvPr/>
        </p:nvPicPr>
        <p:blipFill>
          <a:blip r:embed="rId1"/>
          <a:stretch/>
        </p:blipFill>
        <p:spPr>
          <a:xfrm>
            <a:off x="30240" y="-12600"/>
            <a:ext cx="9113760" cy="617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91520" cy="1197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f5897"/>
                </a:solidFill>
                <a:latin typeface="Times New Roman"/>
                <a:ea typeface="Times New Roman"/>
              </a:rPr>
              <a:t>Расписание ОГЭ (основной период)</a:t>
            </a:r>
            <a:endParaRPr b="0" lang="en-US" sz="28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12" name="Номер слайда 3"/>
          <p:cNvSpPr/>
          <p:nvPr/>
        </p:nvSpPr>
        <p:spPr>
          <a:xfrm>
            <a:off x="854388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4572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5E641-388C-425A-AF7E-671026306060}" type="slidenum">
              <a:rPr b="0" lang="ru-RU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Будет позже. Май-июнь 2023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pic>
        <p:nvPicPr>
          <p:cNvPr id="115" name="Picture 2" descr="C:\Users\Учитель\Desktop\slide_14.jpg"/>
          <p:cNvPicPr/>
          <p:nvPr/>
        </p:nvPicPr>
        <p:blipFill>
          <a:blip r:embed="rId1"/>
          <a:stretch/>
        </p:blipFill>
        <p:spPr>
          <a:xfrm>
            <a:off x="0" y="0"/>
            <a:ext cx="9151920" cy="686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Итоговое собеседование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785880" y="1500120"/>
            <a:ext cx="7818480" cy="250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entury Gothic"/>
              </a:rPr>
              <a:t>	</a:t>
            </a:r>
            <a:r>
              <a:rPr b="1" lang="ru-RU" sz="2400" spc="-1" strike="noStrike">
                <a:solidFill>
                  <a:srgbClr val="ff0000"/>
                </a:solidFill>
                <a:latin typeface="Century Gothic"/>
              </a:rPr>
              <a:t>ОДНО ИЗ УСЛОВИЙ ДОПУСКА. </a:t>
            </a:r>
            <a:r>
              <a:rPr b="1" lang="ru-RU" sz="3200" spc="-1" strike="noStrike">
                <a:solidFill>
                  <a:srgbClr val="002060"/>
                </a:solidFill>
                <a:latin typeface="Century Gothic"/>
              </a:rPr>
              <a:t>Собеседование по русскому языку: </a:t>
            </a: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навыки учеников в устном выражении мыслей, поэтому данная форма контроля предусматривает всего 15 минут на каждого девятиклассника. Вторая среда февраля</a:t>
            </a:r>
            <a:br>
              <a:rPr sz="2000"/>
            </a:b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18" name="Picture 7" descr="C:\Users\учитель\Desktop\is-gia-9.png"/>
          <p:cNvPicPr/>
          <p:nvPr/>
        </p:nvPicPr>
        <p:blipFill>
          <a:blip r:embed="rId1"/>
          <a:stretch/>
        </p:blipFill>
        <p:spPr>
          <a:xfrm>
            <a:off x="1785960" y="4000680"/>
            <a:ext cx="5972040" cy="233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Times New Roman"/>
                <a:ea typeface="Times New Roman"/>
              </a:rPr>
              <a:t>Порядок ГИА в ППЭ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2876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1.Допуск обучающихся в ППЭ осуществляется </a:t>
            </a: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при наличии </a:t>
            </a: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у них документов, удостоверяющих их личность, и при наличии их в списках распределения в данный ППЭ в </a:t>
            </a: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9.00</a:t>
            </a: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 по местному времени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2. На входе – контроль за отсутствием запрещенных средств (металлоискатель)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3. Согласно спискам распределения на информационном стенде участник ГИА </a:t>
            </a: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определяет аудиторию</a:t>
            </a: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, в которую он распределен на экзамен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Times New Roman"/>
                <a:ea typeface="Times New Roman"/>
              </a:rPr>
              <a:t>Порядок ГИА в ППЭ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714240" y="1600200"/>
            <a:ext cx="7972560" cy="21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4. </a:t>
            </a: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Если участник ГИА опоздал на экзамен, он допускается к сдаче ГИА в установленном порядке, при этом время окончания экзамена не продлевается, о чем сообщается участнику ГИА. Если аудиозапись включена – по окончании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23" name="Picture 5" descr=""/>
          <p:cNvPicPr/>
          <p:nvPr/>
        </p:nvPicPr>
        <p:blipFill>
          <a:blip r:embed="rId1"/>
          <a:stretch/>
        </p:blipFill>
        <p:spPr>
          <a:xfrm>
            <a:off x="1763640" y="3860640"/>
            <a:ext cx="52437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Times New Roman"/>
                <a:ea typeface="Times New Roman"/>
              </a:rPr>
              <a:t>Порядок ГИА в ППЭ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5. </a:t>
            </a: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Во время экзамена </a:t>
            </a: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на рабочем столе </a:t>
            </a: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обучающегося, помимо ЭМ, находятся: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а) ручка (гелевая или капиллярная с чернилами черного цвета);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б) документ, удостоверяющий личность;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в) средства обучения и воспитания;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г) лекарства и питание (при необходимости);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д) специальные технические средства (для лиц, с ОВЗ);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е) </a:t>
            </a: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черновики</a:t>
            </a: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, выданные в ППЭ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ДЛЯ ПРОХОЖДЕНИЯ В ППЭ УЧАЩИЕСЯ ДОЛЖНЫ ИМЕТЬ:</a:t>
            </a:r>
            <a:endParaRPr b="0" lang="en-US" sz="4000" spc="-1" strike="noStrike">
              <a:solidFill>
                <a:srgbClr val="2f5897"/>
              </a:solidFill>
              <a:latin typeface="Palatino Linotype"/>
            </a:endParaRPr>
          </a:p>
        </p:txBody>
      </p:sp>
      <p:pic>
        <p:nvPicPr>
          <p:cNvPr id="127" name="Picture 3" descr="C:\Users\User\Desktop\Новая папка\th2D48H6KP.jpg"/>
          <p:cNvPicPr/>
          <p:nvPr/>
        </p:nvPicPr>
        <p:blipFill>
          <a:blip r:embed="rId1"/>
          <a:stretch/>
        </p:blipFill>
        <p:spPr>
          <a:xfrm>
            <a:off x="5076720" y="1916280"/>
            <a:ext cx="2735280" cy="28080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6" descr="C:\Users\User\Desktop\Новая папка\th7FUY4ZVY.jpg"/>
          <p:cNvPicPr/>
          <p:nvPr/>
        </p:nvPicPr>
        <p:blipFill>
          <a:blip r:embed="rId2"/>
          <a:stretch/>
        </p:blipFill>
        <p:spPr>
          <a:xfrm>
            <a:off x="395280" y="2023920"/>
            <a:ext cx="4202280" cy="3025800"/>
          </a:xfrm>
          <a:prstGeom prst="rect">
            <a:avLst/>
          </a:prstGeom>
          <a:ln w="0">
            <a:noFill/>
          </a:ln>
        </p:spPr>
      </p:pic>
      <p:sp>
        <p:nvSpPr>
          <p:cNvPr id="129" name="Скругленный прямоугольник 6"/>
          <p:cNvSpPr/>
          <p:nvPr/>
        </p:nvSpPr>
        <p:spPr>
          <a:xfrm>
            <a:off x="6156360" y="4076640"/>
            <a:ext cx="2519280" cy="22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4455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Ручка черного цвет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гелева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5"/>
          <p:cNvSpPr/>
          <p:nvPr/>
        </p:nvSpPr>
        <p:spPr>
          <a:xfrm>
            <a:off x="571680" y="5500800"/>
            <a:ext cx="392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СПОР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Times New Roman"/>
                <a:ea typeface="Times New Roman"/>
              </a:rPr>
              <a:t>Порядок ГИА в ППЭ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28760" y="1428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f7f7f"/>
                </a:solidFill>
                <a:latin typeface="Century Gothic"/>
              </a:rPr>
              <a:t>6</a:t>
            </a: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. </a:t>
            </a: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Во время проведения экзамена в ППЭ запрещается: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выполнять экзаменационную работу несамостоятельно,в том числе с помощью посторонних лиц, общаться с другими участниками ГИА во время проведения экзамена в аудитории, иметь при себе средства связи, фото-,аудио- и видеоаппаратуру, электронно-вычислительную технику, справочные материалы, письменные заметки и иные средства хранения и передачи информации, выносить из аудиторий и ППЭ черновики, экзаменационные материалы на бумажном и (или)электронном носителях, фотографировать экзаменационные материалы, черновики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7. До начала экзамена организаторы проводят инструктаж. 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Times New Roman"/>
                <a:ea typeface="Times New Roman"/>
              </a:rPr>
              <a:t>Порядок ГИА в ППЭ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28760" y="1428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8. </a:t>
            </a: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Организаторы выдают обучающимся ИК, которые включают в себя КИМ, листы (бланки) для записи ответов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9. По завершении заполнения регистрационных полей экзаменационной работы всеми обучающимися и проверки их организаторами организаторы объявляют время начала и завершения выполнения экзаменационной работы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23640" y="549000"/>
            <a:ext cx="856908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Основные нормативно- правовые документы</a:t>
            </a:r>
            <a:endParaRPr b="0" lang="en-US" sz="36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178920" y="1268280"/>
            <a:ext cx="87138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36440" algn="just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он №273-ФЗ «Об образовании в РФ» от 29.12.2012 г.(ст. 53,19,30)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136440" algn="just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136440" algn="just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ПРОСВЕЩЕНИЯ РОССИИ и Федеральной службы по надзору в сфере образования и науки от 04.04.2023 г. № 232/551 «Об утверждении Порядка проведения государственной итоговой аттестации по образовательным программам основного общего образования».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136440" algn="just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136440" algn="just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136440" algn="just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Times New Roman"/>
                <a:ea typeface="Times New Roman"/>
              </a:rPr>
              <a:t>Порядок ГИА в ППЭ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28760" y="1428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10. </a:t>
            </a: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Во время экзамена участники ГИА не имеют права общаться друг с другом, свободно перемещаться по аудитории и ППЭ. Выходить во время экзамена из аудитории участник ГИА может  с разрешения организатора, а перемещаться по ППЭ - в сопровождении организатора вне аудитории. При выходе из аудитории обучающиеся оставляют ЭМ, письменные принадлежности и черновики на рабочем столе, а организатор проверяет комплектность оставленных ЭМ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 algn="just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Times New Roman"/>
                <a:ea typeface="Times New Roman"/>
              </a:rPr>
              <a:t>Порядок ГИА в ППЭ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642600" y="1428840"/>
            <a:ext cx="8015400" cy="30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11. </a:t>
            </a: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Лица, допустившие нарушение установленного порядка проведения ГИА, </a:t>
            </a: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удаляются</a:t>
            </a: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 с экзамена. Если факт нарушения участником ГИА  порядка проведения экзамена подтверждается, ГЭК принимает решение об </a:t>
            </a: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аннулировании</a:t>
            </a: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 результатов участника экзамена по соответствующему учебному предмету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39480" indent="-3394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39" name="Picture 5" descr=""/>
          <p:cNvPicPr/>
          <p:nvPr/>
        </p:nvPicPr>
        <p:blipFill>
          <a:blip r:embed="rId1"/>
          <a:stretch/>
        </p:blipFill>
        <p:spPr>
          <a:xfrm>
            <a:off x="1949400" y="4365720"/>
            <a:ext cx="52434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Times New Roman"/>
                <a:ea typeface="Times New Roman"/>
              </a:rPr>
              <a:t>Порядок ГИА в ППЭ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28760" y="1428840"/>
            <a:ext cx="81439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12</a:t>
            </a: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. В случае если участник ГИА по состоянию здоровья или другим объективным причинам не может завершить выполнение экзаменационной работы, он досрочно покидает аудиторию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42" name="Picture 5" descr=""/>
          <p:cNvPicPr/>
          <p:nvPr/>
        </p:nvPicPr>
        <p:blipFill>
          <a:blip r:embed="rId1"/>
          <a:stretch/>
        </p:blipFill>
        <p:spPr>
          <a:xfrm>
            <a:off x="2413080" y="3645000"/>
            <a:ext cx="6465960" cy="22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Times New Roman"/>
                <a:ea typeface="Times New Roman"/>
              </a:rPr>
              <a:t>Порядок ГИА в ППЭ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28760" y="1428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13. За 30 минут и за 5 минут до окончания выполнения экзаменационной работы организаторы сообщают обучающимся о скором завершении экзамена и напоминают о необходимости перенести ответы из черновиков в бланки ГИА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14. По истечении выполнения экзаменационной работы организаторы объявляют окончание экзамена и собирают ЭМ уобучающихся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642960" y="1600200"/>
            <a:ext cx="8043840" cy="25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ппеляция о нарушении установленного порядка в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нь проведения ЕГЭ не покидая ППЭ – руководителю ППЭ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ппеляция о несогласии с выставленными баллами –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ечение двух рабочих дней со дня объявления результатов – директору школы или непосредственно в конфликтную комиссию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Times New Roman"/>
                <a:ea typeface="Times New Roman"/>
              </a:rPr>
              <a:t>Подача аппеляции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pic>
        <p:nvPicPr>
          <p:cNvPr id="147" name="Picture 2" descr="C:\Users\учитель\Desktop\img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ОБОРУДОВАНИЕ ППЭ</a:t>
            </a:r>
            <a:endParaRPr b="0" lang="en-US" sz="4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179280" y="1052280"/>
            <a:ext cx="825048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ционарные или переносные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аллоискатели.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ства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еонаблюдения.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50" name="Picture 6" descr="C:\Users\учитель\Desktop\VN_07_s.png"/>
          <p:cNvPicPr/>
          <p:nvPr/>
        </p:nvPicPr>
        <p:blipFill>
          <a:blip r:embed="rId1"/>
          <a:stretch/>
        </p:blipFill>
        <p:spPr>
          <a:xfrm>
            <a:off x="2928960" y="2633760"/>
            <a:ext cx="5072040" cy="37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1009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РЕЗУЛЬТАТЫ ОГЭ</a:t>
            </a:r>
            <a:endParaRPr b="0" lang="en-US" sz="4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28640"/>
            <a:ext cx="82296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ультаты в первичных баллах (сумма баллов за правильно выполненные задания экзаменационной работы).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заменационная работа оценивается по пятибалльной системе.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оки проверки (не более 10 дней). График будет. 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тверждение результатов осуществляется ГЭК в течение 1-го рабочего дня с момента получения итогов централизованной проверки.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499680" y="1142640"/>
            <a:ext cx="8186760" cy="48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ботка и проверка экзаменационных работ занимает не более 10 календарных дней.</a:t>
            </a:r>
            <a:r>
              <a:rPr b="0" lang="ru-RU" sz="3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знакомление обучающихся с результатами ГИА по учебному предмету осуществляется в течение одного рабочего дня со дня их передачи в МАОУ НТГО «СОШ №2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312120" indent="-31212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ученные результаты в первичных баллах (сумма баллов за правильно выполненные задания экзаменационной работы) РЦОИ переводит в пятибалльную систему оценивания. 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99680" y="428760"/>
            <a:ext cx="8186760" cy="714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ru-RU" sz="3600" spc="-1" strike="noStrike">
                <a:solidFill>
                  <a:srgbClr val="2f5897"/>
                </a:solidFill>
                <a:latin typeface="Times New Roman"/>
                <a:ea typeface="Times New Roman"/>
              </a:rPr>
              <a:t>Проверка экзаменационных работ</a:t>
            </a:r>
            <a:endParaRPr b="0" lang="en-US" sz="3600" spc="-1" strike="noStrike">
              <a:solidFill>
                <a:srgbClr val="2f5897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213840" y="1143000"/>
            <a:ext cx="892980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f7f7f"/>
                </a:solidFill>
                <a:latin typeface="Century Gothic"/>
              </a:rPr>
              <a:t>	</a:t>
            </a:r>
            <a:r>
              <a:rPr b="0" lang="ru-RU" sz="1800" spc="-1" strike="noStrike">
                <a:solidFill>
                  <a:srgbClr val="7f7f7f"/>
                </a:solidFill>
                <a:latin typeface="Century Gothic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торно к сдаче ГИА допускаются следующие обучающиеся: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288000" indent="-2880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) участники ГИА, получившие на ГИА неудовлетворительные результаты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288000" indent="-2880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более чем по двум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чебным предметам;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288000" indent="-2880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участники ГИА, проходящие ГИА только по обязательным учебным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288000" indent="-2880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метам и получившие на ГИА неудовлетворительный результат по одному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288000" indent="-2880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обязательных учебных предметов;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288000" indent="-2880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участники ГИА,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явившиеся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экзамен по уважительным причинам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288000" indent="-2880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болезнь или иные обстоятельства), подтвержденным документально;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288000" indent="-2880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участники ГИА,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завершившие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ение экзаменационной работы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288000" indent="-2880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уважительным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чинам (болезнь или иные обстоятельства), подтвержденным документально;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288000" indent="-2880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) участники ГИА, апелляции которых о нарушении Порядка апелляционной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288000" indent="-2880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иссией были удовлетворены;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288000" indent="-2880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) участники ГИА, чьи результаты были аннулированы по решению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288000" indent="-2880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седателя ГЭК в случае выявления фактов нарушений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56800" y="-360"/>
            <a:ext cx="7829640" cy="1214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Times New Roman"/>
                <a:ea typeface="Times New Roman"/>
              </a:rPr>
              <a:t>Пересдача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285840" y="1142640"/>
            <a:ext cx="885816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f7f7f"/>
                </a:solidFill>
                <a:latin typeface="Century Gothic"/>
              </a:rPr>
              <a:t>	</a:t>
            </a:r>
            <a:r>
              <a:rPr b="0" lang="ru-RU" sz="1800" spc="-1" strike="noStrike">
                <a:solidFill>
                  <a:srgbClr val="7f7f7f"/>
                </a:solidFill>
                <a:latin typeface="Century Gothic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чающимся, не прошедшим ГИА или получившим на ГИА неудовлетворительные результаты более чем по двум учебным предметам, либо получившим повторно неудовлетворительный результат по одному или двум учебным предметам на ГИА в дополнительные сроки, предоставляется право пройти ГИА по соответствующим учебным предметам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ранее 1 сентября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кущего года. 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14240" y="0"/>
            <a:ext cx="7972560" cy="1285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Times New Roman"/>
                <a:ea typeface="Times New Roman"/>
              </a:rPr>
              <a:t>Пересдача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23640" y="549000"/>
            <a:ext cx="856908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Обязательность ГИА</a:t>
            </a:r>
            <a:endParaRPr b="0" lang="en-US" sz="36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79280" y="1557000"/>
            <a:ext cx="856944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36440" algn="ctr">
              <a:lnSpc>
                <a:spcPct val="8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А, завершающая освоение имеющих государственную аккредитацию основных образовательных программ основного общего образования, является обязательной. И является основанием считать выпускника завершившим уровень образования и основанием выдачи аттестатов об основном общем образовании</a:t>
            </a:r>
            <a:endParaRPr b="0" lang="en-US" sz="36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785520" y="1599840"/>
            <a:ext cx="7900920" cy="26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f7f7f"/>
                </a:solidFill>
                <a:latin typeface="Century Gothic"/>
              </a:rPr>
              <a:t>	</a:t>
            </a:r>
            <a:r>
              <a:rPr b="0" lang="ru-RU" sz="3200" spc="-1" strike="noStrike">
                <a:solidFill>
                  <a:srgbClr val="7f7f7f"/>
                </a:solidFill>
                <a:latin typeface="Century Gothic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ультаты ГИА признаются удовлетворительными в случае, если обучающийся по сдаваемым учебным предметам набрал минимальное количество баллов.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marL="291600" indent="-29160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f7f7f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7f7f7f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Times New Roman"/>
                <a:ea typeface="Times New Roman"/>
              </a:rPr>
              <a:t>Получение аттестата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pic>
        <p:nvPicPr>
          <p:cNvPr id="161" name="Picture 5" descr=""/>
          <p:cNvPicPr/>
          <p:nvPr/>
        </p:nvPicPr>
        <p:blipFill>
          <a:blip r:embed="rId1"/>
          <a:stretch/>
        </p:blipFill>
        <p:spPr>
          <a:xfrm>
            <a:off x="3348000" y="4508640"/>
            <a:ext cx="538632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357120" y="1071360"/>
            <a:ext cx="8329680" cy="493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f7f7f"/>
                </a:solidFill>
                <a:latin typeface="Century Gothic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тоговые отметки за 9 класс по русскому языку, математике и двум учебным предметам, сдаваемым по выбору обучающегося, определяются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среднее арифметическое годовой и экзаменационной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меток выпускника и выставляются в аттестат целыми числами в соответствии с правилами математического округления. По математике по 3 отметкам (годовые алгебра, геометрия, экзамен) По остальным предметам – годовая за 9 класс.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71680" y="274680"/>
            <a:ext cx="811512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Times New Roman"/>
                <a:ea typeface="Times New Roman"/>
              </a:rPr>
              <a:t>Какие оценки в аттестат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С (РБД) – региональная информационная система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каждого обучающегося – страница с персональными данными: перечень предметов, результаты.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а защищена. Право входа у ответственного за информационный обмен и лично у обучающегося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Times New Roman"/>
                <a:ea typeface="Times New Roman"/>
              </a:rPr>
              <a:t>Информационная безопасность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pic>
        <p:nvPicPr>
          <p:cNvPr id="166" name="Picture 5" descr=""/>
          <p:cNvPicPr/>
          <p:nvPr/>
        </p:nvPicPr>
        <p:blipFill>
          <a:blip r:embed="rId1"/>
          <a:stretch/>
        </p:blipFill>
        <p:spPr>
          <a:xfrm>
            <a:off x="1979640" y="3933720"/>
            <a:ext cx="5386320" cy="187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каждому предмету ОГЭ в школе проводятся консультации и дополнительные занятия по подготовке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ЖНО посещать ВЕСЬ год!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Times New Roman"/>
                <a:ea typeface="Times New Roman"/>
              </a:rPr>
              <a:t>ВЫБОР ЭКЗАМЕНОВ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pic>
        <p:nvPicPr>
          <p:cNvPr id="169" name="Picture 5" descr=""/>
          <p:cNvPicPr/>
          <p:nvPr/>
        </p:nvPicPr>
        <p:blipFill>
          <a:blip r:embed="rId1"/>
          <a:stretch/>
        </p:blipFill>
        <p:spPr>
          <a:xfrm>
            <a:off x="1979640" y="3933720"/>
            <a:ext cx="5386320" cy="187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68360" y="1714680"/>
            <a:ext cx="8461440" cy="9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f5897"/>
                </a:solidFill>
                <a:latin typeface="Times New Roman"/>
                <a:ea typeface="Times New Roman"/>
              </a:rPr>
              <a:t>СПАСИБО ЗА ВНИМАНИЕ! Удачи на ОГЭ!</a:t>
            </a:r>
            <a:endParaRPr b="0" lang="en-US" sz="4400" spc="-1" strike="noStrike">
              <a:solidFill>
                <a:srgbClr val="2f5897"/>
              </a:solidFill>
              <a:latin typeface="Palatino Linotype"/>
            </a:endParaRPr>
          </a:p>
        </p:txBody>
      </p:sp>
      <p:pic>
        <p:nvPicPr>
          <p:cNvPr id="171" name="Picture 5" descr=""/>
          <p:cNvPicPr/>
          <p:nvPr/>
        </p:nvPicPr>
        <p:blipFill>
          <a:blip r:embed="rId1"/>
          <a:stretch/>
        </p:blipFill>
        <p:spPr>
          <a:xfrm>
            <a:off x="2124000" y="3213000"/>
            <a:ext cx="538632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СЛОВАРЬ</a:t>
            </a:r>
            <a:endParaRPr b="0" lang="en-US" sz="4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323640" y="836280"/>
            <a:ext cx="856908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ГИА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государственная итоговая аттестация;</a:t>
            </a:r>
            <a:endParaRPr b="0" lang="en-US" sz="26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ОГЭ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основной государственный экзамен;</a:t>
            </a:r>
            <a:endParaRPr b="0" lang="en-US" sz="26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ГЭК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государственная экзаменационная комиссия;</a:t>
            </a:r>
            <a:endParaRPr b="0" lang="en-US" sz="26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К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предметные комиссии</a:t>
            </a:r>
            <a:endParaRPr b="0" lang="en-US" sz="26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КК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конфликтная комиссия;</a:t>
            </a:r>
            <a:endParaRPr b="0" lang="en-US" sz="26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КИМ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контрольно-измерительные материалы;</a:t>
            </a:r>
            <a:endParaRPr b="0" lang="en-US" sz="26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ПЭ</a:t>
            </a:r>
            <a:r>
              <a:rPr b="0" lang="ru-RU" sz="2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пункт проведения экзамена;</a:t>
            </a:r>
            <a:endParaRPr b="0" lang="en-US" sz="26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Апелляция</a:t>
            </a:r>
            <a:r>
              <a:rPr b="0" lang="ru-RU" sz="2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процедура обжалования.</a:t>
            </a:r>
            <a:endParaRPr b="0" lang="en-US" sz="26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ДОПУСК К ГИА</a:t>
            </a:r>
            <a:endParaRPr b="0" lang="en-US" sz="4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250560" y="1052280"/>
            <a:ext cx="878508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ГИА допускаются обучающиеся, не имеющие академической задолженности, в полном объеме выполнившие учебный план или индивидуальный учебный план (имеющие годовые отметки по всем учебным предметам учебного плана за IX класс не ниже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довлетворительных), а также имеющие результат «зачет» за итоговое собеседование по русскому языку.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99" name="Picture 5" descr=""/>
          <p:cNvPicPr/>
          <p:nvPr/>
        </p:nvPicPr>
        <p:blipFill>
          <a:blip r:embed="rId1"/>
          <a:stretch/>
        </p:blipFill>
        <p:spPr>
          <a:xfrm>
            <a:off x="2556000" y="4149720"/>
            <a:ext cx="523872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ГЭ – основной государственный экзамен, с использованием контрольных измерительных материалов, представляющих собой комплексы заданий стандартизированной формы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2f5897"/>
                </a:solidFill>
                <a:latin typeface="Times New Roman"/>
                <a:ea typeface="Times New Roman"/>
              </a:rPr>
              <a:t>ОГЭ</a:t>
            </a:r>
            <a:endParaRPr b="0" lang="en-US" sz="4800" spc="-1" strike="noStrike">
              <a:solidFill>
                <a:srgbClr val="2f5897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78508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ФОРМЫ ГИА</a:t>
            </a:r>
            <a:endParaRPr b="0" lang="en-US" sz="28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79280" y="764640"/>
            <a:ext cx="878544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9 КЛАСС (за курс основного общего образования)</a:t>
            </a:r>
            <a:endParaRPr b="0" lang="en-US" sz="26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ОГЭ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основной государственный экзамен (задания стандартизированной формы КИМ);</a:t>
            </a:r>
            <a:endParaRPr b="0" lang="en-US" sz="26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ГВЭ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государственный выпускной экзамен (письменная и устная форма: тексты, темы, задания, билеты) – </a:t>
            </a:r>
            <a:r>
              <a:rPr b="1" lang="ru-RU" sz="2600" spc="-1" strike="noStrike" u="sng">
                <a:solidFill>
                  <a:srgbClr val="0070c0"/>
                </a:solidFill>
                <a:uFillTx/>
                <a:latin typeface="Times New Roman"/>
                <a:ea typeface="Times New Roman"/>
              </a:rPr>
              <a:t>щадящий режим</a:t>
            </a:r>
            <a:r>
              <a:rPr b="0" lang="ru-RU" sz="2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.Дети с ОВЗ, инвалиды – 2 обязательных экзамена.</a:t>
            </a:r>
            <a:endParaRPr b="0" lang="en-US" sz="26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А в форме ОГЭ и (или) ГВЭ включает в себя </a:t>
            </a: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тыре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экзамена по учебным предметам </a:t>
            </a:r>
            <a:r>
              <a:rPr b="0" lang="ru-RU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Русский язык» и «Математика»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обязательные учебные предметы), двум учебным предметам по выбору участника ГИА из числа учебных предметов: </a:t>
            </a:r>
            <a:r>
              <a:rPr b="0" lang="ru-RU" sz="2600" spc="-1" strike="noStrike">
                <a:solidFill>
                  <a:srgbClr val="63891f"/>
                </a:solidFill>
                <a:latin typeface="Times New Roman"/>
                <a:ea typeface="Times New Roman"/>
              </a:rPr>
              <a:t>«Биология», «География», «Иностранные языки»(английский), «Информатика», «История», «Литература», «Обществознание», «Физика», «Химия»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учебные предметы по выбору).</a:t>
            </a:r>
            <a:endParaRPr b="0" lang="en-US" sz="26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РЕДМЕТЫ   ГИА (9 класс)</a:t>
            </a:r>
            <a:endParaRPr b="0" lang="en-US" sz="4400" spc="-1" strike="noStrike">
              <a:solidFill>
                <a:srgbClr val="2f5897"/>
              </a:solidFill>
              <a:latin typeface="Palatino Linotype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68360" y="1557360"/>
          <a:ext cx="8318520" cy="5394240"/>
        </p:xfrm>
        <a:graphic>
          <a:graphicData uri="http://schemas.openxmlformats.org/drawingml/2006/table">
            <a:tbl>
              <a:tblPr/>
              <a:tblGrid>
                <a:gridCol w="4581360"/>
                <a:gridCol w="3737160"/>
              </a:tblGrid>
              <a:tr h="548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3000" spc="-1" strike="noStrike" u="sng">
                          <a:solidFill>
                            <a:srgbClr val="0070c0"/>
                          </a:solidFill>
                          <a:uFillTx/>
                          <a:latin typeface="Times New Roman"/>
                          <a:ea typeface="Times New Roman"/>
                        </a:rPr>
                        <a:t>обязательные: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000" spc="-1" strike="noStrike" u="sng">
                          <a:solidFill>
                            <a:srgbClr val="0070c0"/>
                          </a:solidFill>
                          <a:uFillTx/>
                          <a:latin typeface="Times New Roman"/>
                          <a:ea typeface="Times New Roman"/>
                        </a:rPr>
                        <a:t>по выбору: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7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Русский язы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тератур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3320"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темати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70c0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+ два экзамена по выбор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тор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7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Обществознание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7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и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7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Информати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7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еограф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7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им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7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Биолог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3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остранные язык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06" name="Picture 2" descr="F:\Новая папка\Копия%20gia_jpg[1].jpg"/>
          <p:cNvPicPr/>
          <p:nvPr/>
        </p:nvPicPr>
        <p:blipFill>
          <a:blip r:embed="rId1"/>
          <a:stretch/>
        </p:blipFill>
        <p:spPr>
          <a:xfrm>
            <a:off x="684360" y="3860640"/>
            <a:ext cx="3240000" cy="26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179280" y="765000"/>
            <a:ext cx="8785440" cy="66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f7f7f"/>
                </a:solidFill>
                <a:latin typeface="Century Gothic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явления с указанием учебных предметов, форм (формы) ГИА</a:t>
            </a:r>
            <a:endParaRPr b="0" lang="en-US" sz="36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зыка, на котором планируется сдавать экзамены, а также сроков участия в подаются до 1 марта включительно. </a:t>
            </a:r>
            <a:endParaRPr b="0" lang="en-US" sz="36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ача заявлений может быть организована с использованием информационно-коммуникационных технологий (дистанционно)</a:t>
            </a:r>
            <a:endParaRPr b="0" lang="en-US" sz="36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147160" cy="981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Times New Roman"/>
                <a:ea typeface="Times New Roman"/>
              </a:rPr>
              <a:t>Заявление на ГИА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07T06:19:56Z</dcterms:created>
  <dc:creator>User</dc:creator>
  <dc:description/>
  <dc:language>en-US</dc:language>
  <cp:lastModifiedBy>Пользователь Windows</cp:lastModifiedBy>
  <cp:lastPrinted>2015-10-15T11:59:37Z</cp:lastPrinted>
  <dcterms:modified xsi:type="dcterms:W3CDTF">2023-09-28T08:16:40Z</dcterms:modified>
  <cp:revision>140</cp:revision>
  <dc:subject/>
  <dc:title>ЕГЭ 2014 г.</dc:title>
</cp:coreProperties>
</file>