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A9C-EF2A-4773-A1FE-B39EA012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99C-5B4E-4835-8904-EA6B2C69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410-2805-4994-B51C-BCE349FF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E5C-F6AA-48FD-A8C9-CCED14D4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9AD4-47E2-4B88-A126-073364E9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F07B-CB57-4B16-89BB-9F7C7CE5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0F51-87C7-4D2B-B2E5-7B0E3D8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5C06-048F-4B9D-BC82-81A676A7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1E86-9AB9-4C50-9F0F-78DA0E7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42EF-60A3-4A0E-B1BD-4EB0AB8A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735F-BD37-4924-ABA6-5AA18045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5E3-23F6-408F-A761-C139C2F2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65CC-8BDA-42F6-A894-1994F2D5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2195-3188-4359-9DD9-1C3C05B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D226-C4A2-44B8-B969-E163A19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277C-4567-491A-B7BE-FBFD77BA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6D7F-97F4-4D10-ADA7-F010E358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E34-DD57-4347-A5BA-F3436649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CC6-7CA3-4885-A71E-4FD06205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2BE-CAD2-469A-B32C-D50E3E6A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729-125F-4BDF-AA43-601EA5A0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A86-9F18-4544-BB80-854EFF6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9AE-17EC-45B9-B341-D2D132EC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FE6-39EF-4D8E-9869-FBF751C0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69A4-4159-4A10-824B-BC8FECE7B38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7B65-EDF0-4172-8A4C-C313A8BCD6F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141360"/>
            <a:ext cx="8209080" cy="26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сударственная итоговая аттестация - 2024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987640" y="250920"/>
            <a:ext cx="4680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f5897"/>
              </a:solidFill>
              <a:latin typeface="Times New Roman"/>
              <a:ea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240" y="-12600"/>
            <a:ext cx="911376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Расписание ОГЭ (основной период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1B99-CA3A-4B96-B4EC-443747671AD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удет позже. Май-июнь 2023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Picture 2" descr="C:\Users\Учитель\Desktop\slide_14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тоговое собеседовани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85880" y="1500120"/>
            <a:ext cx="78184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ДНО ИЗ УСЛОВИЙ ДОПУСКА. </a:t>
            </a: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Собеседование по русскому языку: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выки учеников в устном выражении мыслей, поэтому данная форма контроля предусматривает всего 15 минут на каждого девятиклассника. Вторая среда февраля</a:t>
            </a:r>
            <a:br>
              <a:rPr sz="2000"/>
            </a:b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7" descr="C:\Users\учитель\Desktop\is-gia-9.png"/>
          <p:cNvPicPr/>
          <p:nvPr/>
        </p:nvPicPr>
        <p:blipFill>
          <a:blip r:embed="rId1"/>
          <a:stretch/>
        </p:blipFill>
        <p:spPr>
          <a:xfrm>
            <a:off x="1785960" y="4000680"/>
            <a:ext cx="59720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Допуск обучающихся в ППЭ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 налич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 них документов, удостоверяющих их личность, и при наличии их в списках распределения в данный ППЭ в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9.00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по местному времен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На входе – контроль за отсутствием запрещенных средств (металлоискатель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Согласно спискам распределения на информационном стенде участник ГИ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пределяет аудиторию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 которую он распределен на экзамен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4240" y="1600200"/>
            <a:ext cx="79725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сли участник ГИА опоздал на экзамен, он допускается к сдаче ГИА в установленном порядке, при этом время окончания экзамена не продлевается, о чем сообщается участнику ГИА. Если аудиозапись включена – по окончани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24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 рабочем столе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учающегося, помимо ЭМ, находятся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ручка (гелевая или капиллярная с чернилами черного цвета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документ, удостоверяющий личност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) средства обучения и воспита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г) лекарства и питание (при необходимости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) специальные технические средства (для лиц, с ОВЗ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)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ерновик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ыданные в ПП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РОХОЖДЕНИЯ В ППЭ УЧАЩИЕСЯ ДОЛЖНЫ ИМЕТЬ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7" name="Picture 3" descr="C:\Users\User\Desktop\Новая папка\th2D48H6KP.jpg"/>
          <p:cNvPicPr/>
          <p:nvPr/>
        </p:nvPicPr>
        <p:blipFill>
          <a:blip r:embed="rId1"/>
          <a:stretch/>
        </p:blipFill>
        <p:spPr>
          <a:xfrm>
            <a:off x="5076720" y="1916280"/>
            <a:ext cx="2735280" cy="28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User\Desktop\Новая папка\th7FUY4ZVY.jpg"/>
          <p:cNvPicPr/>
          <p:nvPr/>
        </p:nvPicPr>
        <p:blipFill>
          <a:blip r:embed="rId2"/>
          <a:stretch/>
        </p:blipFill>
        <p:spPr>
          <a:xfrm>
            <a:off x="395280" y="2023920"/>
            <a:ext cx="4202280" cy="302580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"/>
          <p:cNvSpPr/>
          <p:nvPr/>
        </p:nvSpPr>
        <p:spPr>
          <a:xfrm>
            <a:off x="6156360" y="4076640"/>
            <a:ext cx="2519280" cy="22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чка черного цв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елев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680" y="55008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 время проведения экзамена в ППЭ запрещает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ять экзаменационную работу несамостоятельно,в том числе с помощью посторонних лиц, общаться с другими участниками ГИА во время проведения экзамена в аудитории, иметь при себе средства связи, фото-,аудио- и видеоаппаратуру, электронно-вычислительную технику, справочные материалы, письменные заметки и иные средства хранения и передачи информации, выносить из аудиторий и ППЭ черновики, экзаменационные материалы на бумажном и (или)электронном носителях, фотографировать экзаменационные материалы, черновики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7. До начала экзамена организаторы проводят инструктаж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торы выдают обучающимся ИК, которые включают в себя КИМ, листы (бланки) для записи отве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9. По завершении заполнения регистрационных полей экзаменационной работы всеми обучающимися и проверки их организаторами организаторы объявляют время начала и завершения выполнения экзаменационной работы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нормативно- правовые документ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№273-ФЗ «Об образовании в РФ» от 29.12.2012 г.(ст. 53,19,30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ПРОСВЕЩЕНИЯ РОССИИ и Федеральной службы по надзору в сфере образования и науки от 04.04.2023 г. № 232/551 «Об утверждении Порядка проведения государственной итоговой аттестации по образовательным программам основного общего образования»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участники ГИА не имеют права общаться друг с другом, свободно перемещаться по аудитории и ППЭ. Выходить во время экзамена из аудитории участник ГИА может  с разрешения организатора, а перемещаться по ППЭ - в сопровождении организатора вне аудитории. При выходе из аудитории обучающиеся оставляют ЭМ, письменные принадлежности и черновики на рабочем столе, а организатор проверяет комплектность оставленных Э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600" y="1428840"/>
            <a:ext cx="8015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1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ца, допустившие нарушение установленного порядка проведения ГИА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даляютс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с экзамена. Если факт нарушения участником ГИА  порядка проведения экзамена подтверждается, ГЭК принимает решение об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ннулирован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результатов участника экзамена по соответствующему учебному предмету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949400" y="4365720"/>
            <a:ext cx="5243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428840"/>
            <a:ext cx="8143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 В случае если участник ГИА по состоянию здоровья или другим объективным причинам не может завершить выполнение экзаменационной работы, он досрочно покидает аудиторию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2413080" y="3645000"/>
            <a:ext cx="64659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3. За 30 минут и за 5 минут до окончания выполнения экзаменационной работы организаторы сообщают обучающимся о скором завершении экзамена и напоминают о необходимости перенести ответы из черновиков в бланки ГИ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4. По истечении выполнения экзаменационной работы организаторы объявляют окончание экзамена и собирают ЭМ уобучающихс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42960" y="1600200"/>
            <a:ext cx="804384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арушении установленного порядк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ведения ЕГЭ не покидая ППЭ – руководителю ППЭ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есогласии с выставленными баллам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вух рабочих дней со дня объявления результатов – директору школы или непосредственно в конфликтную комисс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дача аппеля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Picture 2" descr="C:\Users\учитель\Desktop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РУДОВАНИЕ ПП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052280"/>
            <a:ext cx="8250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е или перенос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оискател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наблюдени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0" name="Picture 6" descr="C:\Users\учитель\Desktop\VN_07_s.png"/>
          <p:cNvPicPr/>
          <p:nvPr/>
        </p:nvPicPr>
        <p:blipFill>
          <a:blip r:embed="rId1"/>
          <a:stretch/>
        </p:blipFill>
        <p:spPr>
          <a:xfrm>
            <a:off x="2928960" y="2633760"/>
            <a:ext cx="5072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 первичных баллах (сумма баллов за правильно выполненные задания экзаменационной работы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ая работа оценивается по пятибалльной систем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оверки (не более 10 дней). График будет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результатов осуществляется ГЭК в течение 1-го рабочего дня с момента получения итогов централизованной провер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99680" y="1142640"/>
            <a:ext cx="81867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 проверка экзаменационных работ занимает не более 10 календарных дней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обучающихся с результатами ГИА по учебному предмету осуществляется в течение одного рабочего дня со дня их передачи в МАОУ НТГО «СОШ №2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результаты в первичных баллах (сумма баллов за правильно выполненные задания экзаменационной работы) РЦОИ переводит в пятибалльную систему оценива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роверка экзаменационных работ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1143000"/>
            <a:ext cx="8929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к сдаче ГИА допускаются следующие обучающие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) участники ГИА, получившие на ГИА неудовлетворительные результа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ем по дву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м предметам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астники ГИА, проходящие ГИА только по обязательным учебны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м и получившие на ГИА неудовлетворительный результат по одному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язательных учебных предметов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ившие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кзамен по уважительным причина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ершивш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экзаменационной рабо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важитель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 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частники ГИА, апелляции которых о нарушении Порядка апелляционно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ей были удовлетворены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частники ГИА, чьи результаты были аннулированы по решению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я ГЭК в случае выявления фактов нарушени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8584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неудовлетворительные результаты более чем по двум учебным предметам, либо получившим повторно неудовлетворительный результат по одному или двум учебным предметам на ГИА в дополнительные сроки, предоставляется право пройти ГИА по соответствующим учебны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9725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язательность ГИ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, завершающая освоение имеющих государственную аккредитацию основных образовательных программ основного общего образования, является обязательной. И является основанием считать выпускника завершившим уровень образования и основанием выдачи аттестатов об основном общем образовани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85520" y="1599840"/>
            <a:ext cx="79009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ИА признаются удовлетворительными в случае, если обучающийся по сдаваемым учебным предметам набрал минимальное количество баллов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лучение аттестат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7120" y="1071360"/>
            <a:ext cx="832968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е отметки за 9 класс по русскому языку, математике и двум учебным предметам, сдаваемым по выбору обучающегося,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реднее арифметическое годовой и экзаменационн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ок выпускника и выставляются в аттестат целыми числами в соответствии с правилами математического округления. По математике по 3 отметкам (годовые алгебра, геометрия, экзамен) По остальным предметам – годовая за 9 класс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Какие оценки в аттестат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 (РБД) – региональная информационная систем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обучающегося – страница с персональными данными: перечень предметов, результаты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щищена. Право входа у ответственного за информационный обмен и лично у обучающего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нформационная безопасност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предмету ОГЭ в школе проводятся консультации и дополнительные занятия по подготовк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сещать ВЕСЬ год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ВЫБОР ЭКЗАМЕНО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714680"/>
            <a:ext cx="84614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СПАСИБО ЗА ВНИМАНИЕ! Удачи на ОГЭ!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итоговая аттестац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Э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экзаменацион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метные комиссии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фликт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ольно-измерительные материалы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ПЭ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нкт проведения экзамена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елляция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дура обжалования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ПУСК К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05228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не имеющие академической задолженности, в полном объеме выполнившие учебный план или индивидуальный учебный план (имеющие годовые отметки по всем учебным предметам учебного плана за IX класс не ниже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ых), а также имеющие результат «зачет» за итоговое собеседование по русскому языку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56000" y="4149720"/>
            <a:ext cx="523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 – основной государственный экзамен, с использованием контрольных измерительных материалов, представляющих собой комплексы заданий стандартизированной форм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ОГЭ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ГИ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КЛАСС (за курс основного общего образования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 (задания стандартизированной формы КИМ)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В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ый выпускной экзамен (письменная и устная форма: тексты, темы, задания, билеты) – 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щадящий режим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Дети с ОВЗ, инвалиды – 2 обязательных экзамена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в форме ОГЭ и (или) ГВЭ включает в себя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амена по учебным предметам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ий язык» и «Математика»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язательные учебные предметы), двум учебным предметам по выбору участника ГИА из числа учебных предметов: </a:t>
            </a:r>
            <a:r>
              <a:rPr b="0" lang="ru-RU" sz="2600" spc="-1" strike="noStrike">
                <a:solidFill>
                  <a:srgbClr val="63891f"/>
                </a:solidFill>
                <a:latin typeface="Times New Roman"/>
                <a:ea typeface="Times New Roman"/>
              </a:rPr>
              <a:t>«Биология», «География», «Иностранные языки»(английский), «Информатика», «История», «Литература», «Обществознание», «Физика», «Химия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чебные предметы по выбору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Ы   ГИА (9 класс)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318520" cy="5394240"/>
        </p:xfrm>
        <a:graphic>
          <a:graphicData uri="http://schemas.openxmlformats.org/drawingml/2006/table">
            <a:tbl>
              <a:tblPr/>
              <a:tblGrid>
                <a:gridCol w="4581360"/>
                <a:gridCol w="37371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обязательные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по выбору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 два экзамена по выб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" descr="F:\Новая папка\Копия%20gia_jpg[1].jpg"/>
          <p:cNvPicPr/>
          <p:nvPr/>
        </p:nvPicPr>
        <p:blipFill>
          <a:blip r:embed="rId1"/>
          <a:stretch/>
        </p:blipFill>
        <p:spPr>
          <a:xfrm>
            <a:off x="684360" y="3860640"/>
            <a:ext cx="324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9280" y="765000"/>
            <a:ext cx="878544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с указанием учебных предметов, форм (формы) ГИ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, на котором планируется сдавать экзамены, а также сроков участия в подаются до 1 марта включительно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ча заявлений может быть организована с использованием информационно-коммуникационных технологий (дистанционно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Заявление на ГИ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6:19:56Z</dcterms:created>
  <dc:creator>User</dc:creator>
  <dc:description/>
  <dc:language>en-US</dc:language>
  <cp:lastModifiedBy>Пользователь Windows</cp:lastModifiedBy>
  <cp:lastPrinted>2015-10-15T11:59:37Z</cp:lastPrinted>
  <dcterms:modified xsi:type="dcterms:W3CDTF">2023-09-28T08:16:40Z</dcterms:modified>
  <cp:revision>140</cp:revision>
  <dc:subject/>
  <dc:title>ЕГЭ 2014 г.</dc:title>
</cp:coreProperties>
</file>